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BE3C-A2E6-46BB-B5CC-E0420662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B91-8882-464D-89C8-86722AAEF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CC34-FD0A-4115-A793-D759C2CDD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FB20-EE3E-4F31-9AA2-80C09ACD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3704-0009-40FF-A104-10D255A3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B448-B940-4552-A8EF-C059FEEE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31C-B0C7-46AA-89D3-121504B1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C847-D38E-4EB2-94BA-6B065BCC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F011-679A-4D73-98B1-9D0511C1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0C2-5FBF-4A9F-B2D9-8E5A264B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06D7-B3C8-4600-A9C9-4EACA16A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E6FC-0DF1-418C-B51F-CD79D970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46E-EBD2-4DCE-A24E-8F6CE082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523E-32F4-4AEA-8824-22FEEBC2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F874-E37C-4F4E-93E4-F62D1E73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2097-7E9F-4805-A532-9494940C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663D-E289-433B-BDD1-CC439D74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0ED-A6B8-4DEE-9A29-04D93943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1BD8-6765-46FD-AB03-BA10F2EB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518-D526-49C7-9358-285925B8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E0F9-DB52-49D0-BC7C-C76344C8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D8C1-6A42-4604-895C-EBB3D6F9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00F7-04C8-40AE-B834-31990B30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64DC-1DAA-4BA0-A44E-086FAC46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EFC-E1BA-4E28-B2C9-65F0605C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9E2-D70E-4569-BF93-67A68F2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C2E-8EC4-456B-8E8C-E69DD48A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81E-7063-416A-8409-5A751DDF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829-647F-4580-A550-6AA2FD2F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FCB-CB74-4FDF-BFBC-FFC42C7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E0A-54E8-4E2D-BF0A-8EDD798A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1BD-A284-4D71-B13B-348DF361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CC7-FC97-43C5-84A7-82275311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101-5F79-41CC-9267-3EED5AE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C6F-4E7B-4456-BC23-3DCFEF5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F1A-FBA1-446E-ADEC-683996C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19F-2F31-433B-9A0D-372B16CC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15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169400" y="31140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Comm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6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7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9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15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21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27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Morgan</cp:lastModifiedBy>
  <dcterms:modified xsi:type="dcterms:W3CDTF">2009-01-15T23:08:19Z</dcterms:modified>
  <cp:revision>17</cp:revision>
  <dc:subject/>
  <dc:title>Slide 1</dc:title>
</cp:coreProperties>
</file>